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D36F-2374-4CD6-A40B-13E8B429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B34E-A4C8-48BD-95FB-AAC4116F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7584-2CCB-4F46-AAAC-C065BDC9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2383-6370-4F78-A2FD-6DE2F1C8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7335-44E0-4EC0-94CA-1061F7FF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C196-64EE-4494-94FF-5301333F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B0B5-B768-4CB3-A79C-A281FD0C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CFDC-1A61-491A-A486-3B641F08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0840-286E-435F-946E-144118B0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65B5-6A3D-4297-81F0-393C6FA8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F44B-6C6C-4016-ABA0-ADAD219C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E578-5675-497D-961B-A510E9BF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4CDF-49D1-4AB9-9A28-F459827F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CB79-C3FB-4A1C-BD2A-A9D569B9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A31F-9620-4957-A491-4CAC260C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BAEB-B771-464D-BBE0-D5F7D14A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3BF7-6857-42D2-8270-CE6CB984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F980F-97A2-4CA8-A39D-50824EED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C9A3D-7C29-47D1-8B47-1237E661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B9074-18C6-451E-BDF3-34EBC79C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0B65F-C5C2-4C24-9B60-9876468F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2F2C1-5556-4860-B7DA-EE4B276C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9972-6B3C-43F9-9166-34030F25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7A2B3-9F92-4D1E-972F-5BE727BE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1A7F6-F817-4B8C-A551-ED87F11F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1824C-BFC6-4DEC-9AD5-B0D4623C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8433C-B2EE-4BA6-B617-597E06D4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E30CB-C3E1-4736-988D-E19D9856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8E217-26C7-44A6-AE61-29FB0F6A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42DD6-1816-432C-88AF-363AD765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3CD2D-6489-4382-85AD-3913306F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9E5F8-FD55-45F0-8BA2-9EFB803B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F3D4F-6761-42E1-AB73-5CA9F39F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6627-0F04-4E4E-9CAA-6CFD624E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9D5D4-2A3A-45F6-94E0-84793222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A775A-06B2-4986-9983-CF8941B8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42A02-771A-4973-BC35-654F5571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99CE7-A041-4B9C-A223-11283162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20E84-C20E-474B-AA6D-491016E9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45D06-8EA8-4128-8BEE-D84B5A61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2F229-4ECF-4A10-97F8-971BF0B8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DCFE3-B463-472F-9252-16516A97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BC6CA-98F7-435F-9952-03C2F38C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37283-5DE4-4E22-8704-BCDE066A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34AD-6DAB-4CBC-99CD-74606248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8EE4E-C545-49A3-93B0-511D394C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A0906-3560-4816-A52C-4578320E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D13EA-2CCB-4622-B543-774F49B9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2516A-B71E-49BE-AC98-4849C66C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8BB72-739D-4A73-A600-F41BD1A2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BF80A-704A-4D81-9D6C-6545EF59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E1992-C699-4490-A4A7-4F4ABC19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6AE3D-835C-41B8-AA08-52FBCA57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BED6B-3602-42F6-837E-382DF606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803A8-BE42-4A9F-BB31-51F3B87A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A246-88C7-44AE-83A0-2D2705FE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E6982-DDB1-4B29-88A8-5E51B853D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F79-C65E-46E8-BC8A-44FB5F07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51EF-92D2-408D-BFDB-332DA69F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4D0D-486A-4B05-AC35-1C6BEAEE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9C63-094C-4977-B280-6CEB617BA9F0}" type="slidenum">
              <a:rPr b="0" lang="en-US" sz="1100" spc="-1" strike="noStrike">
                <a:solidFill>
                  <a:srgbClr val="00b05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2D55-D52B-4FB5-A8D9-1BE7E4E97813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A252-2FB1-4F6A-A7D1-9FF794778A4D}" type="slidenum">
              <a:rPr b="0" lang="en-US" sz="1100" spc="-1" strike="noStrike">
                <a:solidFill>
                  <a:srgbClr val="00b05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4BE3-E7D6-4849-B1EE-C771E5BC149D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1EEC-B960-4CEA-9F4D-F6499F36B18A}" type="slidenum">
              <a:rPr b="0" lang="en-US" sz="1100" spc="-1" strike="noStrike">
                <a:solidFill>
                  <a:srgbClr val="00b05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603360" y="-6480"/>
            <a:ext cx="8162640" cy="14814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ernard MT Condensed"/>
              </a:rPr>
              <a:t>1908-1974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3" descr="uewb_09_img0631.jpg"/>
          <p:cNvPicPr/>
          <p:nvPr/>
        </p:nvPicPr>
        <p:blipFill>
          <a:blip r:embed="rId2"/>
          <a:stretch/>
        </p:blipFill>
        <p:spPr>
          <a:xfrm>
            <a:off x="3048120" y="1828800"/>
            <a:ext cx="2819160" cy="34369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914400" y="54864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Medium IT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Eras Medium ITC"/>
              </a:rPr>
              <a:t>If you saw a dog going to be crushed under a car, wouldn’t you help him?”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itle 1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304920" y="16765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ras Medium ITC"/>
              </a:rPr>
              <a:t>Director: Steven Spielber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ras Medium ITC"/>
              </a:rPr>
              <a:t>Schindler was played by Liam Nees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ras Medium ITC"/>
              </a:rPr>
              <a:t>Released December 15, 1993 (USA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ras Medium ITC"/>
              </a:rPr>
              <a:t>Tagline: Whoever saves one life, saves the world entir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ras Medium ITC"/>
              </a:rPr>
              <a:t>Won 7 Oscars, another 63 wins and 21 nominati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Content Placeholder 4" descr="3082759152_6d306f1286.jpg"/>
          <p:cNvPicPr/>
          <p:nvPr/>
        </p:nvPicPr>
        <p:blipFill>
          <a:blip r:embed="rId2"/>
          <a:stretch/>
        </p:blipFill>
        <p:spPr>
          <a:xfrm>
            <a:off x="4876920" y="1600200"/>
            <a:ext cx="1834920" cy="2217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schindler1_web.jpg"/>
          <p:cNvPicPr/>
          <p:nvPr/>
        </p:nvPicPr>
        <p:blipFill>
          <a:blip r:embed="rId3"/>
          <a:stretch/>
        </p:blipFill>
        <p:spPr>
          <a:xfrm>
            <a:off x="6781680" y="1600200"/>
            <a:ext cx="1528920" cy="2209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373503_3.jpg"/>
          <p:cNvPicPr/>
          <p:nvPr/>
        </p:nvPicPr>
        <p:blipFill>
          <a:blip r:embed="rId4"/>
          <a:stretch/>
        </p:blipFill>
        <p:spPr>
          <a:xfrm>
            <a:off x="5867280" y="3886200"/>
            <a:ext cx="167652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1676520" y="182880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ras Medium ITC"/>
              </a:rPr>
              <a:t>www.jewishvirtuallibrary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ras Medium ITC"/>
              </a:rPr>
              <a:t>www.ushmm.or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ras Medium ITC"/>
              </a:rPr>
              <a:t>www.notablebiographies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ras Medium ITC"/>
              </a:rPr>
              <a:t>www.oskarschindler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ras Medium ITC"/>
              </a:rPr>
              <a:t>www.imdb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609120" y="1752480"/>
            <a:ext cx="76201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Ethnic Germa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Born on April 28, 1908 in Zwittau, Austria-Hungar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Catholic; had two childhood friends that were Jewis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Very sinful; womanizing, gambling, money-hungr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Father: Hans Schindler was a business own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Mother: Louise Schindler was a homemak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Sister: Elfriede was very close to Osk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Married Emilie at 20 which severed his relationship with his fath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Picture 3" descr="200.jpg"/>
          <p:cNvPicPr/>
          <p:nvPr/>
        </p:nvPicPr>
        <p:blipFill>
          <a:blip r:embed="rId2"/>
          <a:stretch/>
        </p:blipFill>
        <p:spPr>
          <a:xfrm>
            <a:off x="3809880" y="4419720"/>
            <a:ext cx="16765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609120" y="152388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Schindler used the war as an opportunity to make a fortun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He followed the SS into Poland and became friends with leaders of the Gestap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Operated a factory that created enamel kitchenware and hired Jews since they were the cheapest labor; started to earn a lot of money by supplying Hitler’s arm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3" descr="factory460.jpg"/>
          <p:cNvPicPr/>
          <p:nvPr/>
        </p:nvPicPr>
        <p:blipFill>
          <a:blip r:embed="rId2"/>
          <a:stretch/>
        </p:blipFill>
        <p:spPr>
          <a:xfrm>
            <a:off x="2590920" y="4038480"/>
            <a:ext cx="373356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599840"/>
            <a:ext cx="76960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Medium ITC"/>
              </a:rPr>
              <a:t>In June, 1942, the Nazis were relocating the Jews in the Krakow ghetto where Schindler’s factory was being ru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Medium ITC"/>
              </a:rPr>
              <a:t>Schindler bribed and threatened an SS soldier and stated that his workers were “essential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Medium ITC"/>
              </a:rPr>
              <a:t>Liquidation of the Krakow ghetto began early in 1943 but Schindler again bribed Amon Goeth, who was in charge of the process, to set up a mini camp within the ghetto for Schindler’s Jewish worke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128520" y="317520"/>
            <a:ext cx="757728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5238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Medium ITC"/>
              </a:rPr>
              <a:t>Nazis decided to send all the Jews in the Krakow Ghetto to death camp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Medium ITC"/>
              </a:rPr>
              <a:t>Schindler bribed Goeth with the idea of moving his factory to Czechoslavakia to supply the Third Reich with vital war suppli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Medium ITC"/>
              </a:rPr>
              <a:t>Schindler came up with about 1,200 names of Jewish workers he would take with hi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Medium ITC"/>
              </a:rPr>
              <a:t>In the first seven months of the factory’s operation, the workers never produced a single useful shell (Schindler called it “start-up difficulties” when in reality he purposefully weakened the factory’s manufacturing proces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85680" y="146160"/>
            <a:ext cx="7620120" cy="11588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Eras Medium ITC"/>
              </a:rPr>
              <a:t>War ended on May 8, 1945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Eras Medium ITC"/>
              </a:rPr>
              <a:t>Schindler apologized to his workers for what was done to them and asked them not to seek revenge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Eras Medium ITC"/>
              </a:rPr>
              <a:t>Schindler went bankrupt by 1957 due to overspending, drinking, and gambling; he relied on the Jewish organization B’nai B’rith for funds to survive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Eras Medium ITC"/>
              </a:rPr>
              <a:t>Schindler left his wife in 1958 and went to West Germany where he was looked down upon by his neighbors for helping Jews; lived on retirement money and funds from the Schindlerjuden (Schindler’s Jews)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Eras Medium ITC"/>
              </a:rPr>
              <a:t>Went to Israel and was greeted with open arms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6840" y="1523520"/>
            <a:ext cx="5638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ras Medium ITC"/>
              </a:rPr>
              <a:t>When he turned 54, Schindler was declared a “Righteous Gentile (non-Jew)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ras Medium ITC"/>
              </a:rPr>
              <a:t>He planted a tree on the Avenue of the Righteous which leads up to Jerusalem’s Yad Vashem Museum (Holocaust memorial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3" descr="18.jpg"/>
          <p:cNvPicPr/>
          <p:nvPr/>
        </p:nvPicPr>
        <p:blipFill>
          <a:blip r:embed="rId2"/>
          <a:stretch/>
        </p:blipFill>
        <p:spPr>
          <a:xfrm>
            <a:off x="1523880" y="4038480"/>
            <a:ext cx="3276720" cy="2200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SchindlertreeatAveofRighteous_800.jpg"/>
          <p:cNvPicPr/>
          <p:nvPr/>
        </p:nvPicPr>
        <p:blipFill>
          <a:blip r:embed="rId3"/>
          <a:stretch/>
        </p:blipFill>
        <p:spPr>
          <a:xfrm>
            <a:off x="6095880" y="1676520"/>
            <a:ext cx="2568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17521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Eras Medium ITC"/>
              </a:rPr>
              <a:t>Died of heart and liver problems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Eras Medium ITC"/>
              </a:rPr>
              <a:t>Buried in a Catholic cemetery on Mount Zion in Isra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Eras Medium ITC"/>
              </a:rPr>
              <a:t>Over 500 Schindlerjuden attended his funera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Content Placeholder 4" descr="oskar_Schindler.jpg"/>
          <p:cNvPicPr/>
          <p:nvPr/>
        </p:nvPicPr>
        <p:blipFill>
          <a:blip r:embed="rId2"/>
          <a:stretch/>
        </p:blipFill>
        <p:spPr>
          <a:xfrm>
            <a:off x="5867280" y="1600200"/>
            <a:ext cx="2540160" cy="3809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IMG_0197[1].jpg"/>
          <p:cNvPicPr/>
          <p:nvPr/>
        </p:nvPicPr>
        <p:blipFill>
          <a:blip r:embed="rId3"/>
          <a:stretch/>
        </p:blipFill>
        <p:spPr>
          <a:xfrm>
            <a:off x="0" y="4521240"/>
            <a:ext cx="17524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6840" y="1523880"/>
            <a:ext cx="4419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Medium ITC"/>
              </a:rPr>
              <a:t>In the 1990s there were over 6,000 Holocaust survivors and their descendents alive who were alive because of Oskar Schindl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4419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Eras Medium ITC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Eras Medium ITC"/>
              </a:rPr>
              <a:t>I hated the brutality, the sadism, and the insanity of Nazism. I just couldn’t stand by and see people destroyed. I did what I could, what I had to do, what my conscience told me I must do. That’s all there is to it. Really, nothing more.”  -Oskar Schindl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Picture 4" descr="03411.jpg"/>
          <p:cNvPicPr/>
          <p:nvPr/>
        </p:nvPicPr>
        <p:blipFill>
          <a:blip r:embed="rId2"/>
          <a:stretch/>
        </p:blipFill>
        <p:spPr>
          <a:xfrm>
            <a:off x="4952880" y="1752480"/>
            <a:ext cx="365760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4:34:24Z</dcterms:created>
  <dc:creator>7398</dc:creator>
  <dc:description/>
  <dc:language>en-US</dc:language>
  <cp:lastModifiedBy> </cp:lastModifiedBy>
  <dcterms:modified xsi:type="dcterms:W3CDTF">2009-11-24T17:01:29Z</dcterms:modified>
  <cp:revision>16</cp:revision>
  <dc:subject/>
  <dc:title>Oskar Schindler </dc:title>
</cp:coreProperties>
</file>